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38040" y="655200"/>
            <a:ext cx="4383000" cy="32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3196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295F-B1FE-46B9-A99A-58974D05A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2: What is heritability, and how does it relate to individuals and grou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4: What is the promise of molecular genetics resear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4: How do evolutionary psychologists use natural selection to explain behavior tendenc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5: How might and evolutionary psychologist explain gender differences in mating prefer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6: What are the key criticisms of evolutionary psycholo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view Question 7: To what extent are our lives shaped by early stimulation, by parents, and by pe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8: How do cultural norms affect our behavi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9: How do individualist and collectivist influences affect peo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0: What are some ways in which males and females tend to be alike and to diff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1: How do nature and nurture together form our gen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38400" y="65556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160880"/>
            <a:ext cx="54864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view Question 1: What are genes, and how do behavior geneticists explain individual differ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4C9-F72C-47B5-97FA-9C1F4B90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C31-9D56-436E-A00E-183F589B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75F-B4F6-4F30-B9CE-6C46729D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A71-8C9D-481D-B5DE-C9E72782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603-5160-49A4-A1B4-3BE5E0A6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B35-C4A7-47C9-91B3-6805A5A9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B0D-0EC3-4987-967A-7A1D1791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4CE-A005-4AD3-A82F-24F1B890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DA1-5A4B-4817-A7D2-4F2DA585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D1A-2552-4593-874B-8CA54A69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376-9E62-49C3-9F80-C1EA9F7D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C10-EF22-4030-9357-5CAC2D9B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A524-CB50-4430-B74F-338462A56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9th Edition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G.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3A5-DC85-47CE-8007-1C40EAA4C1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s: Our Codes for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1400" y="1600200"/>
            <a:ext cx="77724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gments within DNA consist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that make proteins to determine our develop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28800" y="2700360"/>
            <a:ext cx="6297480" cy="39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BBD-1FCE-4DAF-994F-33B4604F15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om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the set of complete instructions for making an organism, containing all the genes in that organism. Thus, the human genome makes us human, and the genome for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drosophil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makes it a common house f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9AD-9472-4A2A-AE4C-CA10DED8075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2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win and Adoption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ying the effects of heredity and environment on two sets of twins, identical and fraternal, has come in han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52640" y="3200400"/>
            <a:ext cx="7010280" cy="328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AFE-B8BD-4CAA-8438-1BD638A7528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eparated Tw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number of studies compared identical twins reared separately from birth, or close thereafter, and found numerous similar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728800" y="3276720"/>
          <a:ext cx="3657600" cy="32763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62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eparated Tw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ersonality, Intellig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2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bilities, Attitu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terests, F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rain Waves, Heart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964-4F7A-4637-9D37-2327C602F60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eparated Tw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itics of separated twin studies note that such similarities can be found between strangers. Researchers point out that differences between fraternal twins are greater than identical tw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03400" y="3894120"/>
            <a:ext cx="3308400" cy="2720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5400000">
            <a:off x="5931360" y="6112440"/>
            <a:ext cx="8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Bob Sa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C18-F4F8-4DBF-9E99-C5A70989D89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Biological Versu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doptive Rel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option studies, as opposed to twin studies, suggest that adoptees (who may be biologically unrelated) tend to be different from their adoptive parents and sib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46480" y="3471840"/>
            <a:ext cx="4421160" cy="298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EC7-6A6C-4B68-9CB5-1E6A8337E71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doptive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optive studies strongly point to the simple fact that biologically related children turn out to be different in a family. So investigators a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7672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iblings have differing experi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34340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iblings, despite sharing half of their genes, have different combinations of the other half of their ge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538020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ltimate ques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parenting have an eff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6AF-8EC3-4C8B-ADA8-37657B9A9C05}" type="slidenum">
              <a:t>1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are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140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renting does have an effect on biologically related and unrelated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28800" y="3276720"/>
          <a:ext cx="3657600" cy="280188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arenting Influences Children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ttitudes,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anners, Belie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aith, Poli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755-B151-421F-B6C3-2EB03329A20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emperament and Hered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400" y="2743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emperament refers to a person’s stable emotional reactivity and intensity. Identical twins express similar temperaments, suggesting heredity predisposes tempera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AC7-C36F-4ADC-A2A2-98AAEB22ED8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Nature </a:t>
            </a:r>
            <a:r>
              <a:rPr b="0" i="1" lang="en-US" sz="4000" spc="-1" strike="noStrike">
                <a:solidFill>
                  <a:srgbClr val="000000"/>
                </a:solidFill>
                <a:latin typeface="Palatino Linotype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Nur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ome human traits are fixed, such as having two eyes.  However, most psychological traits are liable to change with environmental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1400" y="37339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07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s provide choices for the organism to change its form or traits when environmental variables change. Therefore, genes are pliable or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self-regulating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FEB-80E5-4C32-925D-5E89D16A4F4B}" type="slidenum">
              <a:t>19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9280" y="3061800"/>
            <a:ext cx="7681680" cy="31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398680" cy="28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A37-09DC-41C1-BBF1-D4CC8BD55F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e-Environment Inte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s can influence traits which affect responses, and environment can affect gene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1400" y="37339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07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genetic predisposition that makes a child restless and hyperactive evokes an angry response from his parents. A stressful environment can trigger genes to manufacture neurotransmitters leading to de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D68-BC3A-4783-B860-5EF833FA6008}" type="slidenum">
              <a:t>20</a:t>
            </a:fld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e-Environment Inte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s and environment affect our traits individually, but more important are their interactive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57200" y="3048120"/>
            <a:ext cx="6400800" cy="2584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07320" y="5791320"/>
            <a:ext cx="610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ople respond differently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wan Atkinson (Mr. Bean) than Orlando bl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4880" y="79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985200" y="50583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Rex 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6682680" y="436788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Alessia Pierdomenico/Reuters/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5B0-5846-41AD-A946-4FFFCD3AF85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volutionary Psychology: Understanding Human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1400" y="29718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Evolutionary psycholog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studies why we as humans are alike. In particular, it studies the evolution of behavior and mind using principles of natural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F2E-BB8C-464C-B9E5-A43220ADB6B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Natural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14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atural selec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s an evolutionary process through which adaptive traits are passed on to ongoing generations because these traits help animals survive and reprodu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EC9-6295-423C-BCFD-3CBDFD16BCA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Artificial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14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ologists like Belyaev and Trut (1999) were able to artificially rear and domesticate wild foxes, selecting them for friendly tra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35360" y="2971800"/>
            <a:ext cx="3444840" cy="3000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92280" y="6019920"/>
            <a:ext cx="592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ny trait that is favored naturally or artifici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preads to future gen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4897440" y="4506840"/>
            <a:ext cx="300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L.N. Trur, </a:t>
            </a: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American Scientist 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(1999) 87: 160-1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C65-4F9D-4D46-84E4-4F7392FEC81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uman Tra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14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number of human traits have been identified as a result of pressures afforded by natural se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27672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infants fear strangers when they become mobi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34340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people fear spiders and snakes and not electricity and gu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0480" y="5394240"/>
            <a:ext cx="7729560" cy="868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men and women alike? How and why do men’s and women’s sexuality di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7AC-F884-4D1E-B6B1-2DDC26EBF459}" type="slidenum">
              <a:t>25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uman Sexu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400" y="21337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les and females, to a large extent, behave and think similarly. Differences in sexes arise in regards to reproductive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93160" y="16146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der Differences in Sex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3581280"/>
          <a:ext cx="7543800" cy="2666880"/>
        </p:xfrm>
        <a:graphic>
          <a:graphicData uri="http://schemas.openxmlformats.org/drawingml/2006/table">
            <a:tbl>
              <a:tblPr/>
              <a:tblGrid>
                <a:gridCol w="4967280"/>
                <a:gridCol w="1357560"/>
                <a:gridCol w="121896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Question (summariz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em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asual s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ex for aff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Think about sex everyd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B51-5FED-4F67-9E61-726B5EACE55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Natural Selection &amp; Mating P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5640" y="1981080"/>
            <a:ext cx="8139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atural selection has caused males to send their genes into the future by mating with multiple females since males have lower costs involv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680" y="4114800"/>
            <a:ext cx="79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ever, females select one mature and caring male because of the higher costs involved with pregnancy and nur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835-FAB5-4063-8FEC-310F6FF182D2}" type="slidenum">
              <a:t>27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ating P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0680" y="1414440"/>
            <a:ext cx="8138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les look for youthful appearing females in order to pass their genes into the future. Females, on the other hand, look for maturity, dominance, affluence and boldness in 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0880" y="3429000"/>
            <a:ext cx="5500800" cy="2838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50120" y="6251400"/>
            <a:ext cx="342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ata based on 37 cultu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737-4FB3-4691-A24D-87F271CDD87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ritiquing the Evolutionary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90560"/>
            <a:ext cx="7729560" cy="10526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psychologists take a behavior and work backward to explain it in terms of natural sel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124080"/>
            <a:ext cx="7758000" cy="10969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psychology proposes genetic determinism and undercuts morality in establishing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572000"/>
            <a:ext cx="7758000" cy="11444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genders are unequal, gender preferences are wide, but when they are closely equal, preferences narrow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F78-3A2F-4A6C-91BB-4CC39AF0FEC8}" type="slidenum">
              <a:t>29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6948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Behavior Genetics: Predicting Individual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s: Our Codes for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win and Adoption Stu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emperament and Here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er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e-Environment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360" indent="-258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New Frontier: Molecular Gen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E80-B06D-45E4-970C-F4290EAD2D4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volutionary Psychologists Re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90560"/>
            <a:ext cx="7729560" cy="1281240"/>
          </a:xfrm>
          <a:prstGeom prst="roundRect">
            <a:avLst>
              <a:gd name="adj" fmla="val 16667"/>
            </a:avLst>
          </a:prstGeom>
          <a:solidFill>
            <a:srgbClr val="ff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psychologists argue that we need to test behaviors that expound evolutionary princi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1400" y="3200400"/>
            <a:ext cx="7729560" cy="1158840"/>
          </a:xfrm>
          <a:prstGeom prst="roundRect">
            <a:avLst>
              <a:gd name="adj" fmla="val 16667"/>
            </a:avLst>
          </a:prstGeom>
          <a:solidFill>
            <a:srgbClr val="ff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psychologists remind us how we have adapted, but do not dictate how we ought to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1400" y="4572000"/>
            <a:ext cx="7758360" cy="1111320"/>
          </a:xfrm>
          <a:prstGeom prst="roundRect">
            <a:avLst>
              <a:gd name="adj" fmla="val 16667"/>
            </a:avLst>
          </a:prstGeom>
          <a:solidFill>
            <a:srgbClr val="ff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s and females are more alike than different, and if we study these differences we can establish their ca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0A1-8DD3-4975-A29C-51E4217AD9A6}" type="slidenum">
              <a:t>30</a:t>
            </a:fld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1900080"/>
            <a:ext cx="625788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arents and P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rents and Early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er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3BF-A051-48D8-AFC2-36AABBA42F4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arents and Pe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1400" y="28195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e have looked at how genes influence our developmental differences. What about the environment?  How do our early experiences, our family, our community and our culture affects these differen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8640" y="18730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rents and Early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358-30EC-4B48-831F-82B947F9F03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xperience and Brain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postnatal experiences affect brain development. Rosenzweig et al. (1984) showed that rats raised in enriched environments developed thicker cortices than those in impoverishe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57400" y="3952800"/>
            <a:ext cx="6789600" cy="26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C45-71F6-466C-A1B5-44175E947B0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xperience and Facul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4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arly experiences during development in humans shows remarkable improvements in music, languages and the ar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0200" y="3048120"/>
            <a:ext cx="4114800" cy="340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5400000">
            <a:off x="6028920" y="5644800"/>
            <a:ext cx="141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Courtesy of C. Bru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2D4-12D9-4352-80F5-C128533892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40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rain Development and Adulth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1400" y="141444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ain development does not stop when we reach adulthood. Throughout our life, brain tissue continues to grow and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81240" y="3048120"/>
            <a:ext cx="6538680" cy="2836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22720" y="6019920"/>
            <a:ext cx="627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 well-learned finger-tapping task lead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more motor cortical neurons (right) than base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6501960" y="4255200"/>
            <a:ext cx="303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Both hotos courtesy of Avi Kani and Lesl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Ungerleider, National Institue of Mental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6D3-54B5-4666-82CA-CCDB34B9617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ow Much Credit (or Blame) Do Parents Deser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419120"/>
            <a:ext cx="79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rental influence is largely genetic. This support is essential in nurturing children. However, other socializing factors also play an important r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79760" y="3247920"/>
            <a:ext cx="3757680" cy="2683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7440" y="5931000"/>
            <a:ext cx="434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lthough raised in the same famil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ome children are greater risk tak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5774040" y="5076000"/>
            <a:ext cx="131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Miquel L. Fairban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A93-D85F-4FAD-BFF2-3AD8B592186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eer Influ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1400" y="1419120"/>
            <a:ext cx="77724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hildren, like adults, attempt to fit into a group by conforming. Peers are influential in such areas as learning to cooperate with others, gaining popularity, and developing inte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87600" y="3659040"/>
            <a:ext cx="4122720" cy="2741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5400000">
            <a:off x="6001560" y="5570640"/>
            <a:ext cx="145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Ole Graf/ zefa/ 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FE3-E604-4545-B223-822464FDB0F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3800" y="1585800"/>
            <a:ext cx="625788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Cultural Infl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riations Across Cul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riation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 and the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 and Child-R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velopmental Similarities Across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B6E-7533-4C08-9E70-FEC3F3A3A40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ultural Infl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umans have the ability to evolve culture. Culture is composed of behaviors, ideas, attitudes, values and traditions shared by a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347920" y="3629160"/>
            <a:ext cx="4414680" cy="2968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rot="5400000">
            <a:off x="6111720" y="572760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Kevin R. Morris/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748-BCE2-4048-8701-D344077F36D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94920" y="1900080"/>
            <a:ext cx="625788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arents and P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rents and Early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eer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E76-6480-403A-A36B-6D90C393BE1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ariation Across 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s differ. Each culture develops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norms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– rules for accepted and expected behavior. Men holding hands in Saudi Arabia is the norm (closer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personal spa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, but not in American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27120" y="3581280"/>
            <a:ext cx="4259520" cy="2968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rot="5400000">
            <a:off x="5914080" y="5569200"/>
            <a:ext cx="178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Jason Reed/ Reuters/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50C-9165-47A0-8E45-AFE013B8211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Variation Ov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s change over time. The rate of this change may be extremely fast. In many Western countries, culture has rapidly changed over the past 40 years or 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1400" y="4038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change cannot be attributed to changes in the human gene pool because genes evolve very slow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D47-0712-4F3F-A975-E5222D2F25A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ulture and the 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419120"/>
            <a:ext cx="44910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a culture nurtures an individual’s personal identity, it is said to be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individualist,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but if a group identity is favored then the culture is described as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ollectivis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llectivist support system can benefit groups who experience disasters such as the 2005 earthquake in Pakis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795920" y="1600200"/>
            <a:ext cx="3647880" cy="4343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5400000">
            <a:off x="8101080" y="536004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Kyodo Ne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D49-936C-478A-829B-0801E9EE660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ulture and the 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315200" cy="46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E9B-7156-47CC-BCD0-CB9D8141C2D6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ulture and Child-Re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dividualist cultures (European) raise their children as independent individuals whereas collectivist cultures (Asian) raise their children as inter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336760" y="3429000"/>
            <a:ext cx="4442040" cy="2968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rot="5400000">
            <a:off x="5959080" y="5375880"/>
            <a:ext cx="188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Jose Luis Palaez, Inc./ 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EF2-DBBD-4D47-8BED-2624980681D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ulture and Child-Re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00000" y="1981080"/>
          <a:ext cx="7315200" cy="3886200"/>
        </p:xfrm>
        <a:graphic>
          <a:graphicData uri="http://schemas.openxmlformats.org/drawingml/2006/table">
            <a:tbl>
              <a:tblPr/>
              <a:tblGrid>
                <a:gridCol w="3711600"/>
                <a:gridCol w="36036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esternized Cul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sian-African Cul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esponsible for your 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esponsible to 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ollow your con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riority to obed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iscover your gif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 true to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amily-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 true to your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 loyal to your gr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 in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e interdepen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D97-EA83-4BD9-983C-B84C93E557A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velopmental Similarities Across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spite diverse cultural backgrounds, humans are more similar than different in many ways. We share the same genetic profile, life cycle, capacity for language, and biological n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57440" y="3660840"/>
            <a:ext cx="3957840" cy="2968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rot="5400000">
            <a:off x="5886720" y="5784840"/>
            <a:ext cx="149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Copyright Steve Reeh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311C-FF0B-457F-BD3C-3BDC433D310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3800" y="1600200"/>
            <a:ext cx="625788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Gender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der 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Nature of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Nurture of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EB3-858F-42A6-B397-EE47D4F841C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der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ased on genetic makeup, males and females are alike, since the majority of our inherited genes (45 chromosomes are unisex) are simi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1400" y="3962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les and females differ biologically in body fat, muscle, height, onset of puberty, and life expecta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205-C621-4991-B05F-975B4400C94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der Differences in Agg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1400" y="1600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en express themselves and behave in more aggressive ways than do women. This aggression gender gap appears in many cultures and at various ag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4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males, the nature of this aggression is phys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DF5-7CD3-4F4A-85DB-C8C72BA46AB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23800" y="1585800"/>
            <a:ext cx="625788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Cultural Infl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riations Across Cul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ariation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 and the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ulture and Child-R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velopmental Similarities Across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3C5-6CEA-4F7B-936E-6DDF2FEEDE6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der and Social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1400" y="19051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most societies, men are socially dominant and are perceived as su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400" y="3886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2005, men accounted for 84% of the governing parlia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BAF-A6A8-4F24-B776-452427709A1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ender Differences and Connected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Young and old, women form more connections (friendships) with people than do men. Men emphasize freedom and self-rel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00160" y="3429000"/>
            <a:ext cx="7176960" cy="2840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5400000">
            <a:off x="3657960" y="525204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Oliver Eltinger/ Zefa/ Cor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564680" y="5342760"/>
            <a:ext cx="166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Dex Image/ Getty I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971-91CB-4A27-9D4F-A238BE76EBD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iology of S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144792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iological sex is determined by the twenty-third pair of chromosomes. If the pair is XX, a female is produced. If the pair is XY, a male child is produ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52840" y="3276720"/>
            <a:ext cx="3809880" cy="32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12B-9C0C-49B1-A66C-1D393BD932EF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exual Differe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5640" y="16002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 the mother’s womb, the male fetus is exposed to testosterone (because of the Y chromosome), which leads to the development of male genit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5640" y="3960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f low levels of testosterone are released in the uterus, the result is a fem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5CE-DA0E-4480-9061-993DF308803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exual Different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640" y="18288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xual differentiation is not only biological, but also psychological and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5640" y="36576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owever, genes and hormones play a very important role in defining gender, especially in altering the brain and influencing gender differences as a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D88-3CC2-4CFB-91B0-B639A921033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der Ro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14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ur culture shapes our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der rol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— expectations of how men and women are supposed to beh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1400" y="3962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der Identit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— means how a person views himself or herself in terms of gen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E71-79BB-4571-BD20-B0EF8EE771B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der Roles: The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1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ocial Learning Theory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oposes that we learn gender behavior like any other behavior—reinforcement, punishment, and observ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Gender Schema Theor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suggests that we learn a cultural “recipe” of how to be a male or a female, which influences our gender- based perceptions and behavi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776-5F35-4EBD-B4EC-A0F031BF23A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ature, Nurture, and Human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23800" y="1600200"/>
            <a:ext cx="625788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Reflections on Nature and Nur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E69-54E0-4276-A9C0-28E87A4D973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eflections on Nature and Nur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52480" y="1600200"/>
            <a:ext cx="741996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BFB-0B79-44E8-9E20-BC0BB5F36C77}" type="slidenum">
              <a:t>58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66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Evolutionary Psychology: Understanding Human N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atural Selection and Adap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volutionary Success Helps Explain Simila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 Evolutionary Explanation of Human Sex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B1F-D865-4FFD-B909-84CB7EA54E0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23800" y="1600200"/>
            <a:ext cx="625788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Gender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840" indent="-250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nder 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840" indent="-250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Nature of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840" indent="-250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Nurture of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Reflections on Nature and Nur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84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7FD-86B8-4410-A302-9802E559B8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Behavior Genetics: Predicting Individual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1400" y="24004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Behavior Geneticist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study our differences and weigh the relative effects of heredity an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5EF-93D2-4683-8131-6E043DCDCCD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enes: Our Codes for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400" y="16002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Chromosom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containing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deoxyribonucleic acid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) are situated in the nucleus of a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2752560"/>
            <a:ext cx="4699080" cy="393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A93-45EB-4401-8675-02BC258A8C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Ptwickler</cp:lastModifiedBy>
  <dcterms:modified xsi:type="dcterms:W3CDTF">2009-04-03T16:05:26Z</dcterms:modified>
  <cp:revision>1735</cp:revision>
  <dc:subject/>
  <dc:title>Memory</dc:title>
</cp:coreProperties>
</file>